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B45F-68AA-4409-9FC5-04870D58F62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4AA2-B5A1-4B66-B990-EAD326D4BA0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B979-7099-4E65-A6C2-64680698B3F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15A9-D87B-4DA1-A193-B5D88D14C5E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D753-E5F0-45DF-8F64-05FCCA96FCC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7692-0664-4FF7-BB5B-7868F358136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84D3-FCF0-44EF-817C-925C880EE86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1831-D97C-47F2-8ACF-C98E6F56A8D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14F6-1342-4592-B4B6-25C74857E09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936800" y="608040"/>
            <a:ext cx="3227400" cy="2421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47520" y="3268800"/>
            <a:ext cx="5203800" cy="61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300E-C1B1-4CCB-AF87-DB84A42D56B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3C5E-17D0-4BA1-97B2-3C7E1714241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500B-195D-4B8B-8556-82AD13B233E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47C9-7F3C-4111-B704-42CE68363F3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9EA3-BD69-445B-AA2B-6D097CBE92B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8105-90DB-499F-8B4E-60109B29DCB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B170-2F5F-459D-9B81-A6D363A94DE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6E4A-B894-4B1B-96E3-84472CDFAF1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D28A-3784-4573-A41A-D3407DAE196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3012-657F-4C7C-8B7C-7084CAD1F81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DBE8-CE15-4905-80B8-91C3C6F22F8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9195-561C-4FD6-BB4B-B08A34BB55C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69B2-9761-42A0-B265-6B435CB2E50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1688-727B-4210-A622-AB1A89CA100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0F2C-0AB9-4213-A64D-C9D00FA2B8D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DDB2-B3FB-4E6D-B757-8424BC14FA0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C35E-1B72-4F36-A17D-B83BEAFB280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F2AB-8FE8-4C1A-BE4B-69146F24063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D5A1-45BE-4D9F-9155-2717284511F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AB55-0FCF-4761-B86D-DA6F0A43D59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D5CB-29E5-4EB0-93EB-4D1F0DF6F8F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3882-AC9C-4C52-B0B2-292701AAEB5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5B8E-BFCA-4A1E-A090-A4CE5EDEFBA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52EA-3F57-4CDC-9830-A08C5D4FC31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AC4D-2548-480D-8775-577BB10FC61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957B-D358-46F0-8845-C89C48F2678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99AC-0351-4EBD-8A0E-D217E9750D7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A51A-8CFA-4E14-9D6E-C0C8E88AAF8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9FB7-0922-4F20-9C8E-4FBA7C14FC6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E45B-5D42-4EC0-B90B-A0E5EA388F4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3F61-F4BA-4663-BC54-1C27833B9C6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9743-7457-4F69-BA67-C6046A514D3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72FA-3335-4FB1-98C9-60433A75ECD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FEA1-B118-471D-8D4A-1BF43F0C534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3EE1-6BFF-42E3-BE57-6068E86926B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274D-ABCD-459E-B282-F67FBE0A9D9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6E89-D3F5-4DD0-9D4B-E7D8626C690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B44D-BE35-4910-B127-A4B16797C7B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4CE6-700D-4F14-A75D-826B0F6C17A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45F6-1C76-4A39-9F25-9A0EE2FBD5D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4B96-9F47-42D6-9AD6-3BA194DA16B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50AF-D89E-44BF-8F8A-E599412F3C6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D027-606D-4CCE-9411-CF196A6DFE8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7BBF-98F9-4E91-B08B-ABD343D680B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B164-420E-43CF-A3B0-F89E40798CD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71A5-F3BF-416C-98B3-4432C72D4FB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2B20-F006-49B9-B484-921A2EE99A2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E43E-7396-4F19-8F5A-284BF3F7997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835D-F680-47CD-A632-2166BFBF905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E0A8-49FA-42FB-9A68-79CE0814983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6CD0-C5CA-44E4-B1D0-7762D901BDD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00FE-186E-43C7-88AD-7E8617B1D57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AAEF-2A66-4D78-A4FF-75CE2D73F53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8029-0AD9-49B1-81AB-53758C88F91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3458-3A83-46FF-A1AA-1842C7FBC08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A89A-A5AE-4E7B-8670-0B26D041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6F7-354B-4297-BDFE-5426D2B5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800-B59E-4A5A-9105-83385A7C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953-8827-423B-91B2-47BCD664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58D4-E71A-4488-B2D9-5A715791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3453-D27F-48FF-ACBB-FA074B36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6A0D-CDED-4400-A3CF-1E23CA70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1E99-F54C-4C58-875A-69ECFF14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0FC3-06A0-4137-B5B3-EA725109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C9CA-394E-44DA-82ED-25E37578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33B4-9915-4834-A503-E45CD3AA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9F8-07C8-4350-8524-F0D81C0A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BFFB-E914-46C9-B140-AA672A2B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99B0-AA9A-4D48-B679-4F87896F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22FD-F3D9-49BF-A9C7-AF3A809D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0A6D-18D0-46AE-A592-7EDC4485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7445-4F95-491D-8E38-8D98EF88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25159C-048F-4382-B57B-BC02236E8E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940513-98FB-43FB-93F1-728DC295C1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CA3195-BDA3-425D-AB53-EE50C7D9FC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405229-A0BF-427F-B292-2098EE6D96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91107D-D4D2-4D31-BC15-1182077934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CD7-2B8D-444C-89E8-D09BEEBD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869467-2045-4E66-AE92-8EA1996428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B4C24C-5AFF-4866-B1E5-515F46A3C2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AD632F-0707-402F-ABD9-C1A5EC6CEA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00E760-7DCC-4F58-A1A8-69B228EA91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D68DD1-FD82-4C82-A177-77EC182EF5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5FE6DF-F8BE-406C-86A7-7EA31B698C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50E0E2-5AD9-40DB-8D01-6D39CBF29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3F93-A8EA-4021-AD9F-BD5CE4C5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647-6FDE-4295-8312-4216A0A0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ECDF-5A1F-42B5-8FB0-6CAB8E32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D71E-CBAC-4383-AE72-6B363F73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D28-92F6-4481-9933-247B3B1B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6769-6995-4CFF-9C58-435B3114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82FF-74D9-4493-99F3-AE78A0E9F3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0289-9B22-4C67-BE87-949B63F5FA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90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7"/>
          </p:nvPr>
        </p:nvSpPr>
        <p:spPr>
          <a:xfrm>
            <a:off x="0" y="61718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205F-D951-43F8-BA89-964B9CEFCA63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Bild 12" descr="P0303261.JPG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Gruppierung 5" descr=""/>
          <p:cNvPicPr/>
          <p:nvPr/>
        </p:nvPicPr>
        <p:blipFill>
          <a:blip r:embed="rId2"/>
          <a:stretch/>
        </p:blipFill>
        <p:spPr>
          <a:xfrm>
            <a:off x="-1432080" y="3597120"/>
            <a:ext cx="11874600" cy="3267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Teil 9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51811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ffffff">
                <a:alpha val="9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Ontologien und Beschreibungslog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ild 11" descr="deusonto_masked.png"/>
          <p:cNvPicPr/>
          <p:nvPr/>
        </p:nvPicPr>
        <p:blipFill>
          <a:blip r:embed="rId3"/>
          <a:stretch/>
        </p:blipFill>
        <p:spPr>
          <a:xfrm>
            <a:off x="2000160" y="96840"/>
            <a:ext cx="5523120" cy="4944960"/>
          </a:xfrm>
          <a:prstGeom prst="rect">
            <a:avLst/>
          </a:prstGeom>
          <a:ln w="0">
            <a:noFill/>
          </a:ln>
        </p:spPr>
      </p:pic>
      <p:pic>
        <p:nvPicPr>
          <p:cNvPr id="145" name="Bild 9" descr="AIFB.eps"/>
          <p:cNvPicPr/>
          <p:nvPr/>
        </p:nvPicPr>
        <p:blipFill>
          <a:blip r:embed="rId4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KITlogo_4c_frutiger"/>
          <p:cNvPicPr/>
          <p:nvPr/>
        </p:nvPicPr>
        <p:blipFill>
          <a:blip r:embed="rId5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F0F1-160E-4184-A286-6E7692C73B39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emantic We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ierarchie von Spra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w3c"/>
          <p:cNvPicPr/>
          <p:nvPr/>
        </p:nvPicPr>
        <p:blipFill>
          <a:blip r:embed="rId1"/>
          <a:stretch/>
        </p:blipFill>
        <p:spPr>
          <a:xfrm>
            <a:off x="7238880" y="457200"/>
            <a:ext cx="1295640" cy="863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sweb-stack"/>
          <p:cNvPicPr/>
          <p:nvPr/>
        </p:nvPicPr>
        <p:blipFill>
          <a:blip r:embed="rId2"/>
          <a:stretch/>
        </p:blipFill>
        <p:spPr>
          <a:xfrm>
            <a:off x="1295280" y="1673280"/>
            <a:ext cx="73090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0941-494C-40EB-B403-3108D1789632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schreibungslogiken (DL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052280"/>
            <a:ext cx="8534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chreibungslogiken sind Formalismen zur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ba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ikbasierte Seman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tomatische De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drucksstark für komplexes 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ank genug für Anwendbar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age für Ontologiesprache OWL (Web Ontology Language, W3C Standard April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rntechnologie für das Semantic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age für Semantisches Wissensmanagement in Unterne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A7A9-E166-4091-90B5-595467E3244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inführung in D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(Description Logics, kurz DLs) sind ein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milie von Formalism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für explizite und implizit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präsentation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trukturierte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iss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einheitlich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icher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.a. die traditionellen framebasierten, netzwerkartigen und objektorientierten Modellierungssprach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it formaler Semantik a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5A9B-AAE4-48D3-8D7E-AF48786F705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Fokus und Zielsetz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Je ausdrucksmächtig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ie Logik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sto schwierig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wird das automatische Schließ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lexität stei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nche Probleme sind sogar un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Ziel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st ei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sundes Gleichgewich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zu finden, d.h. eine möglichst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sdrucksmächtig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Logik, die für wichtige Problem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ntscheidbare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möglichst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ffizientes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tomatisches Schließen anbiet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713C-F448-4E52-9D4E-80DD179A05E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Syntax und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sind eine Familie von Logi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gibt nich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i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Beschreibungslogik, sonder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ele verschiedene Beschreibungslogik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 DL werden mittels sog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nstruktor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us einfachen Beschreibungen komplexere Beschreibungen geba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chiedene Beschreibungslogik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nterscheiden sich in der Menge der Konstruktoren (Ausdrucksmächtigkeit)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 die sie anbi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A7B1-E815-4F3E-B119-FF30C71A903E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struktoren ermöglichen d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ba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mplexeren Konzepten au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weniger komplexeren bzw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tomaren Konzept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lche Arten von Konstruktoren es gibt, hängt von der konkreten DL a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meisten DLs bieten jed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junk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Disjunk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Nega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istenzquantor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und Allquantor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7669080" y="2781360"/>
            <a:ext cx="648000" cy="216036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5869080" y="2060640"/>
            <a:ext cx="1079280" cy="3744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llgemeine DL Architek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44360" y="1701720"/>
            <a:ext cx="5075280" cy="4392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95280" y="1844640"/>
            <a:ext cx="36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nowledg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16080" y="2421000"/>
            <a:ext cx="4709880" cy="158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316080" y="4294080"/>
            <a:ext cx="4709880" cy="158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539640" y="2494080"/>
            <a:ext cx="36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box (sche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539640" y="4365720"/>
            <a:ext cx="36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ox (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309600" y="2997360"/>
            <a:ext cx="4800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Hu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ppy-Father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has-child.Female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309600" y="4870440"/>
            <a:ext cx="4800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appy-Father(Joh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as-child(John, Ma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3"/>
          <p:cNvSpPr/>
          <p:nvPr/>
        </p:nvSpPr>
        <p:spPr>
          <a:xfrm rot="16200000">
            <a:off x="4766040" y="36666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feren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4"/>
          <p:cNvSpPr/>
          <p:nvPr/>
        </p:nvSpPr>
        <p:spPr>
          <a:xfrm rot="16200000">
            <a:off x="7033680" y="35593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5"/>
          <p:cNvSpPr/>
          <p:nvPr/>
        </p:nvSpPr>
        <p:spPr>
          <a:xfrm>
            <a:off x="521964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6948360" y="386064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8317080" y="386064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82600"/>
            <a:ext cx="725796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Einfaches Beispi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Terminologisches Wissen (</a:t>
            </a:r>
            <a:r>
              <a:rPr b="0" i="1" lang="en-GB" sz="2800" spc="-1" strike="noStrike">
                <a:solidFill>
                  <a:srgbClr val="008000"/>
                </a:solidFill>
                <a:latin typeface="Arial"/>
              </a:rPr>
              <a:t>TBox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):</a:t>
            </a:r>
            <a:br>
              <a:rPr sz="2800"/>
            </a:b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Axiome, die die Struktur der zu modellierenden Dom</a:t>
            </a:r>
            <a:r>
              <a:rPr b="0" i="1" lang="de-DE" sz="2000" spc="-1" strike="noStrike">
                <a:solidFill>
                  <a:srgbClr val="008000"/>
                </a:solidFill>
                <a:latin typeface="Arial"/>
              </a:rPr>
              <a:t>äne beschreiben </a:t>
            </a: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(konzeptionelles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Al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Wissen um Individuen (</a:t>
            </a:r>
            <a:r>
              <a:rPr b="0" i="1" lang="en-GB" sz="2800" spc="-1" strike="noStrike">
                <a:solidFill>
                  <a:srgbClr val="008000"/>
                </a:solidFill>
                <a:latin typeface="Arial"/>
              </a:rPr>
              <a:t>ABox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):</a:t>
            </a:r>
            <a:br>
              <a:rPr sz="2800"/>
            </a:b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Axiome, die konkrete Situationen (Daten) beschr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7C63-89D1-48A3-96EC-CF0E43F92EE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Atomare Typ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zeptname / Klassen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Student, Mitarbeiter, Professor, Vorlesung, Studieng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bar mit einer Klasse in UML und einem Entitätstyp in 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llen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weistellige P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dika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binden zwei Klassen oder Individu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Studen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such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, Mitarbeit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treu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, Profess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äl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bar mit Assoziation in UML und Beziehungstyp in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16FF-49D5-4C42-B877-1FDF2A849AC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ynta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nzept Asser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Student(Peter), Vorlesung(AngInf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bar mit Objekten in UML und Entitäten in 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olle Asser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(a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besucht(Peter, AngInf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bar mit Assoziationen in UML und Beziehungen in 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ox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e endliche Menge von solchen Axiomen (Konzept Assertion und Rolle Asser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n ABox Axiomen benutzten Konzept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önnen aber müssen nic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 TBox definiert s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764D-BDA3-4D02-9A52-1ADC4A423B73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- Einfüh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ntologie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philosophische Disziplin, Zweig der Philosophie welcher sich mit der Natur und der Organisation von Wirklichkeit beschäfti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hre des Seins (Aristoteles, Metaphysik, IV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ucht folgende Fragen zu beantw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ist S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sind alle gemeinsamen Eigenschaften des Sei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83808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4551-6B1B-44F2-BE23-CD0F21F6A11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Box Synta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st di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infachs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Beschreibungs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tomare Ty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- (oder Klassen-) name A, B, ... und folgende zwei spezielle Konzep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?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ottom Konz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&gt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op oder universelles Konzep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llennamen R, 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strukt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Ne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Konjunk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Disjunk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xistenzquan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Allquan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8924-575D-485B-A67B-3ACA5BD81B79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lassenbeziehun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 k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önnen auf zwei Arten miteinander in Beziehung gesetzt we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klus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chh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Frau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o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ist gleichbedeutend damit, da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i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ussagen 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 ge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F3A8-7B5D-48C4-A845-E8D21C82A10F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gation von C bedeutet intuitiv “alles ausser 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junktion von C und D bedeutet intuitiv “sowohl C als auch 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uchscre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gabegerät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abeger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sjunktion von C und D bedeutet intuitiv “C oder 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iAngestellt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tarbeiter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CF9B-6416-4D7C-9A5F-797F61347A6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C (Existenzquantor) bedeutet intuitiv „alle x, die eine Beziehung vom Typ R mit einem y vom Typ C hab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ucht.Vorle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C (Allquantor) bedeutet intuitiv „alle x, für die alle Beziehungen vom Typ R mit einem y vom Typ C sind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Elternteil.Men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 ein Individuum gar keine Beziehung vom Typ R, erfüllt es immer die Bedingung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AB54-2A80-4739-95F6-E1FB8AD91FF1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lassenbeziehun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beziehungen k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önnen für zusammengesetzte Klassen verwendet we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klus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chh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Frau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emale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d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Orph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Parent.D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isches Wissen (sog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o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besteht aus einer Menge solcher Klassenbeziehungen (sog.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xio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terpretationen für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155000" cy="423072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4"/>
          <p:cNvSpPr/>
          <p:nvPr/>
        </p:nvSpPr>
        <p:spPr>
          <a:xfrm>
            <a:off x="468360" y="5805360"/>
            <a:ext cx="2066760" cy="3938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o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282B-3FC1-4775-BE5F-45864D5BE20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(a) gdw. 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1619280" y="39466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1611360" y="432756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Mann(Pe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au(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887040" y="295596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Insta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1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1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20"/>
          <p:cNvSpPr/>
          <p:nvPr/>
        </p:nvSpPr>
        <p:spPr>
          <a:xfrm>
            <a:off x="3276720" y="3898800"/>
            <a:ext cx="3276360" cy="9781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21"/>
          <p:cNvSpPr/>
          <p:nvPr/>
        </p:nvSpPr>
        <p:spPr>
          <a:xfrm>
            <a:off x="2590920" y="4330800"/>
            <a:ext cx="3962160" cy="6984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22"/>
          <p:cNvSpPr/>
          <p:nvPr/>
        </p:nvSpPr>
        <p:spPr>
          <a:xfrm>
            <a:off x="3124080" y="4775040"/>
            <a:ext cx="3962520" cy="63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0D7F-D4D3-41E3-A41D-8771AA64084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(a, b) gdw. (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658880" y="39466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1659600" y="43275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1039320" y="266688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Insta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4806720" y="292428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1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20"/>
          <p:cNvSpPr/>
          <p:nvPr/>
        </p:nvSpPr>
        <p:spPr>
          <a:xfrm>
            <a:off x="2590920" y="4330800"/>
            <a:ext cx="3962160" cy="69840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1"/>
          <p:cNvSpPr/>
          <p:nvPr/>
        </p:nvSpPr>
        <p:spPr>
          <a:xfrm>
            <a:off x="1641600" y="547056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atEhega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1633320" y="47084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3300"/>
                </a:solidFill>
                <a:latin typeface="Times New Roman"/>
              </a:rPr>
              <a:t>Mann(Pe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3"/>
          <p:cNvSpPr/>
          <p:nvPr/>
        </p:nvSpPr>
        <p:spPr>
          <a:xfrm>
            <a:off x="1600560" y="510552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99"/>
                </a:solidFill>
                <a:latin typeface="Times New Roman"/>
              </a:rPr>
              <a:t>Frau(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24"/>
          <p:cNvSpPr/>
          <p:nvPr/>
        </p:nvSpPr>
        <p:spPr>
          <a:xfrm>
            <a:off x="3276720" y="3898800"/>
            <a:ext cx="3276360" cy="978120"/>
          </a:xfrm>
          <a:prstGeom prst="pie">
            <a:avLst/>
          </a:pr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25"/>
          <p:cNvSpPr/>
          <p:nvPr/>
        </p:nvSpPr>
        <p:spPr>
          <a:xfrm>
            <a:off x="3124080" y="4711680"/>
            <a:ext cx="3657600" cy="622440"/>
          </a:xfrm>
          <a:prstGeom prst="pie">
            <a:avLst/>
          </a:pr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6"/>
          <p:cNvSpPr/>
          <p:nvPr/>
        </p:nvSpPr>
        <p:spPr>
          <a:xfrm>
            <a:off x="6629400" y="4038480"/>
            <a:ext cx="15228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7"/>
          <p:cNvSpPr/>
          <p:nvPr/>
        </p:nvSpPr>
        <p:spPr>
          <a:xfrm>
            <a:off x="7391520" y="4038480"/>
            <a:ext cx="22860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1581120" y="592776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tEhegatte(Peter, 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9"/>
          <p:cNvSpPr/>
          <p:nvPr/>
        </p:nvSpPr>
        <p:spPr>
          <a:xfrm flipV="1">
            <a:off x="3124080" y="4267080"/>
            <a:ext cx="358164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0"/>
          <p:cNvSpPr/>
          <p:nvPr/>
        </p:nvSpPr>
        <p:spPr>
          <a:xfrm flipV="1">
            <a:off x="3124080" y="4343400"/>
            <a:ext cx="441972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1"/>
          <p:cNvSpPr/>
          <p:nvPr/>
        </p:nvSpPr>
        <p:spPr>
          <a:xfrm flipV="1">
            <a:off x="4724280" y="4343400"/>
            <a:ext cx="198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38C5-B910-4217-BAE7-2554F26005F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bezieh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leichheit: A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klusion: 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´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gdw.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gdw.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TBox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gdw.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jedes Axiom in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4"/>
          <p:cNvSpPr/>
          <p:nvPr/>
        </p:nvSpPr>
        <p:spPr>
          <a:xfrm>
            <a:off x="6842160" y="1798560"/>
            <a:ext cx="2057400" cy="2895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5"/>
          <p:cNvSpPr/>
          <p:nvPr/>
        </p:nvSpPr>
        <p:spPr>
          <a:xfrm>
            <a:off x="7667640" y="38606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6"/>
          <p:cNvSpPr/>
          <p:nvPr/>
        </p:nvSpPr>
        <p:spPr>
          <a:xfrm>
            <a:off x="8028000" y="23493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7"/>
          <p:cNvSpPr/>
          <p:nvPr/>
        </p:nvSpPr>
        <p:spPr>
          <a:xfrm>
            <a:off x="8388360" y="27082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7093080" y="25653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9"/>
          <p:cNvSpPr/>
          <p:nvPr/>
        </p:nvSpPr>
        <p:spPr>
          <a:xfrm>
            <a:off x="7596360" y="328464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10"/>
          <p:cNvSpPr/>
          <p:nvPr/>
        </p:nvSpPr>
        <p:spPr>
          <a:xfrm>
            <a:off x="8290080" y="3322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11"/>
          <p:cNvSpPr/>
          <p:nvPr/>
        </p:nvSpPr>
        <p:spPr>
          <a:xfrm>
            <a:off x="8028000" y="27813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4702680" y="35002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 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W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7552080" y="134136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6319440" y="126828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7"/>
          <p:cNvSpPr/>
          <p:nvPr/>
        </p:nvSpPr>
        <p:spPr>
          <a:xfrm>
            <a:off x="7070760" y="1989000"/>
            <a:ext cx="1822320" cy="24480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18"/>
          <p:cNvSpPr/>
          <p:nvPr/>
        </p:nvSpPr>
        <p:spPr>
          <a:xfrm>
            <a:off x="7308720" y="2997360"/>
            <a:ext cx="1335240" cy="11887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20"/>
          <p:cNvSpPr/>
          <p:nvPr/>
        </p:nvSpPr>
        <p:spPr>
          <a:xfrm>
            <a:off x="6372360" y="3246480"/>
            <a:ext cx="1008000" cy="4698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21"/>
          <p:cNvSpPr/>
          <p:nvPr/>
        </p:nvSpPr>
        <p:spPr>
          <a:xfrm>
            <a:off x="6012000" y="1628640"/>
            <a:ext cx="1800000" cy="576360"/>
          </a:xfrm>
          <a:prstGeom prst="pie">
            <a:avLst/>
          </a:pr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6319440" y="299736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4750560" y="18302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Times New Roman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A686-C01F-475D-B29A-68A39019017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Neg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639080" y="39466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1711800" y="4341960"/>
            <a:ext cx="17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Mann 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1633320" y="266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2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2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2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30"/>
          <p:cNvSpPr/>
          <p:nvPr/>
        </p:nvSpPr>
        <p:spPr>
          <a:xfrm>
            <a:off x="3429000" y="4419720"/>
            <a:ext cx="3124080" cy="6094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4324-2372-415E-A1F6-5FFD540A5EC3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in der Informa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 ontology is an explicit specification of a conceptualization. [Gruber, 9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 ontology is a shared understanding of some domain of interest. [Uschold, Gruninger, 9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ibt viele weitere Definitionen, in unserem Sinne ist – zunächst informell betrachtet - alles eine Ontologie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Konzeptualisierung eines Weltausschnitts darstell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formale Spezifikation besitz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ens einer Gruppe von Personen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9701-912D-4033-ADF7-72BB3020489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Konjunktion (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6121440" y="304812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7035840" y="5410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6"/>
          <p:cNvSpPr/>
          <p:nvPr/>
        </p:nvSpPr>
        <p:spPr>
          <a:xfrm>
            <a:off x="7188120" y="3429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7"/>
          <p:cNvSpPr/>
          <p:nvPr/>
        </p:nvSpPr>
        <p:spPr>
          <a:xfrm>
            <a:off x="734076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8"/>
          <p:cNvSpPr/>
          <p:nvPr/>
        </p:nvSpPr>
        <p:spPr>
          <a:xfrm>
            <a:off x="657864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6730920" y="4800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756936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7416720" y="5105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1612440" y="365292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Ein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1609200" y="402264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us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1560240" y="4343400"/>
            <a:ext cx="39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ouchscr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gabegerät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s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6"/>
          <p:cNvSpPr/>
          <p:nvPr/>
        </p:nvSpPr>
        <p:spPr>
          <a:xfrm>
            <a:off x="1633320" y="27432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6831360" y="259092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4422600" y="270036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27"/>
          <p:cNvSpPr/>
          <p:nvPr/>
        </p:nvSpPr>
        <p:spPr>
          <a:xfrm>
            <a:off x="6299280" y="3213000"/>
            <a:ext cx="1816200" cy="224784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reeform 28"/>
          <p:cNvSpPr/>
          <p:nvPr/>
        </p:nvSpPr>
        <p:spPr>
          <a:xfrm>
            <a:off x="6743880" y="3594240"/>
            <a:ext cx="1231560" cy="22604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29"/>
          <p:cNvSpPr/>
          <p:nvPr/>
        </p:nvSpPr>
        <p:spPr>
          <a:xfrm>
            <a:off x="7264440" y="3860640"/>
            <a:ext cx="520560" cy="1067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reeform 30"/>
          <p:cNvSpPr/>
          <p:nvPr/>
        </p:nvSpPr>
        <p:spPr>
          <a:xfrm>
            <a:off x="3352680" y="3403440"/>
            <a:ext cx="3124440" cy="48276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32"/>
          <p:cNvSpPr/>
          <p:nvPr/>
        </p:nvSpPr>
        <p:spPr>
          <a:xfrm>
            <a:off x="3352680" y="3772080"/>
            <a:ext cx="3657600" cy="7236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reeform 34"/>
          <p:cNvSpPr/>
          <p:nvPr/>
        </p:nvSpPr>
        <p:spPr>
          <a:xfrm>
            <a:off x="3276720" y="4165560"/>
            <a:ext cx="4267080" cy="55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5797-9438-4AB7-A3BD-8FB60F44A693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Disjunktion (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11"/>
          <p:cNvSpPr/>
          <p:nvPr/>
        </p:nvSpPr>
        <p:spPr>
          <a:xfrm>
            <a:off x="7467480" y="5181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1573560" y="35766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itarb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1623600" y="39466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647000" y="4327560"/>
            <a:ext cx="31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iAngestel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arbeiter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1633320" y="266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2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27"/>
          <p:cNvSpPr/>
          <p:nvPr/>
        </p:nvSpPr>
        <p:spPr>
          <a:xfrm>
            <a:off x="6350040" y="3048120"/>
            <a:ext cx="1638360" cy="1460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Freeform 30"/>
          <p:cNvSpPr/>
          <p:nvPr/>
        </p:nvSpPr>
        <p:spPr>
          <a:xfrm>
            <a:off x="6299280" y="4470480"/>
            <a:ext cx="1727280" cy="6350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32"/>
          <p:cNvSpPr/>
          <p:nvPr/>
        </p:nvSpPr>
        <p:spPr>
          <a:xfrm>
            <a:off x="6210360" y="2971800"/>
            <a:ext cx="1955880" cy="2387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33"/>
          <p:cNvSpPr/>
          <p:nvPr/>
        </p:nvSpPr>
        <p:spPr>
          <a:xfrm>
            <a:off x="2971800" y="3441600"/>
            <a:ext cx="3505320" cy="749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reeform 34"/>
          <p:cNvSpPr/>
          <p:nvPr/>
        </p:nvSpPr>
        <p:spPr>
          <a:xfrm>
            <a:off x="2971800" y="3860640"/>
            <a:ext cx="3429000" cy="9399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35"/>
          <p:cNvSpPr/>
          <p:nvPr/>
        </p:nvSpPr>
        <p:spPr>
          <a:xfrm>
            <a:off x="3581280" y="4495680"/>
            <a:ext cx="2743200" cy="533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0E78-FCC1-4762-BB99-B7FD5BCE524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s Existenzqua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{d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t (d,e)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5"/>
          <p:cNvSpPr/>
          <p:nvPr/>
        </p:nvSpPr>
        <p:spPr>
          <a:xfrm>
            <a:off x="69343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1633320" y="35766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1635480" y="3946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es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1264680" y="26668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7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1614960" y="43275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Vorle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reeform 25"/>
          <p:cNvSpPr/>
          <p:nvPr/>
        </p:nvSpPr>
        <p:spPr>
          <a:xfrm>
            <a:off x="6261120" y="2959200"/>
            <a:ext cx="1523880" cy="14731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26"/>
          <p:cNvSpPr/>
          <p:nvPr/>
        </p:nvSpPr>
        <p:spPr>
          <a:xfrm>
            <a:off x="6438960" y="4356000"/>
            <a:ext cx="1676520" cy="134640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reeform 27"/>
          <p:cNvSpPr/>
          <p:nvPr/>
        </p:nvSpPr>
        <p:spPr>
          <a:xfrm>
            <a:off x="2895480" y="3111480"/>
            <a:ext cx="3886200" cy="6984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28"/>
          <p:cNvSpPr/>
          <p:nvPr/>
        </p:nvSpPr>
        <p:spPr>
          <a:xfrm>
            <a:off x="6629400" y="4038480"/>
            <a:ext cx="15228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 flipH="1">
            <a:off x="7009920" y="3505320"/>
            <a:ext cx="22860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31"/>
          <p:cNvSpPr/>
          <p:nvPr/>
        </p:nvSpPr>
        <p:spPr>
          <a:xfrm>
            <a:off x="2971800" y="4432320"/>
            <a:ext cx="3581280" cy="52056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32"/>
          <p:cNvSpPr/>
          <p:nvPr/>
        </p:nvSpPr>
        <p:spPr>
          <a:xfrm>
            <a:off x="1567440" y="47228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ucht.Vorle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35"/>
          <p:cNvSpPr/>
          <p:nvPr/>
        </p:nvSpPr>
        <p:spPr>
          <a:xfrm>
            <a:off x="6413400" y="3187800"/>
            <a:ext cx="1117800" cy="109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36"/>
          <p:cNvSpPr/>
          <p:nvPr/>
        </p:nvSpPr>
        <p:spPr>
          <a:xfrm>
            <a:off x="4114800" y="3530520"/>
            <a:ext cx="2514600" cy="142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38"/>
          <p:cNvSpPr/>
          <p:nvPr/>
        </p:nvSpPr>
        <p:spPr>
          <a:xfrm>
            <a:off x="2743200" y="4191120"/>
            <a:ext cx="39625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39"/>
          <p:cNvSpPr/>
          <p:nvPr/>
        </p:nvSpPr>
        <p:spPr>
          <a:xfrm>
            <a:off x="2743200" y="4191120"/>
            <a:ext cx="434340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5985-DA95-4033-AAFB-D78B4714E0B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s Allqua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{d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d,e)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6"/>
          <p:cNvSpPr/>
          <p:nvPr/>
        </p:nvSpPr>
        <p:spPr>
          <a:xfrm>
            <a:off x="6858000" y="3429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7"/>
          <p:cNvSpPr/>
          <p:nvPr/>
        </p:nvSpPr>
        <p:spPr>
          <a:xfrm>
            <a:off x="7596360" y="35733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8"/>
          <p:cNvSpPr/>
          <p:nvPr/>
        </p:nvSpPr>
        <p:spPr>
          <a:xfrm>
            <a:off x="6629400" y="3733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1634760" y="42670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at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1643760" y="39625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Stu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1416960" y="26668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6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4"/>
          <p:cNvSpPr/>
          <p:nvPr/>
        </p:nvSpPr>
        <p:spPr>
          <a:xfrm>
            <a:off x="1511280" y="501336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tBein.Holz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30"/>
          <p:cNvSpPr/>
          <p:nvPr/>
        </p:nvSpPr>
        <p:spPr>
          <a:xfrm flipH="1" flipV="1">
            <a:off x="7019640" y="3573000"/>
            <a:ext cx="60948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31"/>
          <p:cNvSpPr/>
          <p:nvPr/>
        </p:nvSpPr>
        <p:spPr>
          <a:xfrm>
            <a:off x="6858000" y="4876920"/>
            <a:ext cx="304920" cy="53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32"/>
          <p:cNvSpPr/>
          <p:nvPr/>
        </p:nvSpPr>
        <p:spPr>
          <a:xfrm>
            <a:off x="6858000" y="4800600"/>
            <a:ext cx="6094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33"/>
          <p:cNvSpPr/>
          <p:nvPr/>
        </p:nvSpPr>
        <p:spPr>
          <a:xfrm>
            <a:off x="6948360" y="3573360"/>
            <a:ext cx="747720" cy="998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Freeform 34"/>
          <p:cNvSpPr/>
          <p:nvPr/>
        </p:nvSpPr>
        <p:spPr>
          <a:xfrm>
            <a:off x="6756480" y="3683160"/>
            <a:ext cx="1257120" cy="21463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5"/>
          <p:cNvSpPr/>
          <p:nvPr/>
        </p:nvSpPr>
        <p:spPr>
          <a:xfrm>
            <a:off x="1614240" y="463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Holz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reeform 36"/>
          <p:cNvSpPr/>
          <p:nvPr/>
        </p:nvSpPr>
        <p:spPr>
          <a:xfrm>
            <a:off x="6300720" y="3068640"/>
            <a:ext cx="901800" cy="2171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reeform 38"/>
          <p:cNvSpPr/>
          <p:nvPr/>
        </p:nvSpPr>
        <p:spPr>
          <a:xfrm>
            <a:off x="2438280" y="3403440"/>
            <a:ext cx="4038840" cy="7876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40"/>
          <p:cNvSpPr/>
          <p:nvPr/>
        </p:nvSpPr>
        <p:spPr>
          <a:xfrm>
            <a:off x="6629400" y="4546440"/>
            <a:ext cx="380880" cy="406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41"/>
          <p:cNvSpPr/>
          <p:nvPr/>
        </p:nvSpPr>
        <p:spPr>
          <a:xfrm>
            <a:off x="3924360" y="4648320"/>
            <a:ext cx="2705040" cy="838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42"/>
          <p:cNvSpPr/>
          <p:nvPr/>
        </p:nvSpPr>
        <p:spPr>
          <a:xfrm flipV="1">
            <a:off x="2700360" y="3644640"/>
            <a:ext cx="460836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43"/>
          <p:cNvSpPr/>
          <p:nvPr/>
        </p:nvSpPr>
        <p:spPr>
          <a:xfrm flipV="1">
            <a:off x="2666880" y="4292640"/>
            <a:ext cx="4784760" cy="203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44"/>
          <p:cNvSpPr/>
          <p:nvPr/>
        </p:nvSpPr>
        <p:spPr>
          <a:xfrm>
            <a:off x="2666880" y="4495680"/>
            <a:ext cx="464832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45"/>
          <p:cNvSpPr/>
          <p:nvPr/>
        </p:nvSpPr>
        <p:spPr>
          <a:xfrm>
            <a:off x="2743200" y="4495680"/>
            <a:ext cx="43434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47"/>
          <p:cNvSpPr/>
          <p:nvPr/>
        </p:nvSpPr>
        <p:spPr>
          <a:xfrm>
            <a:off x="2819520" y="4876920"/>
            <a:ext cx="3962160" cy="5461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EC88-9E18-4335-B542-F58ABA341F6F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t der Zeit sind verschiedene DL Konstruktoren eingeführt worden, um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zu erweitern. Z.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ahlenrestriktion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x | |{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x | |{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 hatKind bedeutet alle Individuen, die mindestens drei Kinder h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hatMutter bedeutet alle Individuen, die höchstens eine Mutter h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442B-41A7-4D39-B7B4-992EBFBFA5C3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alifizierte Zahlenrestriktionen: wie Zahlenrestriktion nur mit dem Unterschied, dass der Wertebereich festgelegt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R.C bzw.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R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{x | |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} bzw. {x | |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 hatKind.Frau bedeutet alle Individuen, die mindestens 2 weibliche Kinder (Töchter) h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hatElterteil.Mann bedeutet alle Individuen, die höchstens einen männlichen Elternteil (Vater) hab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272D-4B99-437D-A593-CA98B938F2F9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19320" y="1125000"/>
            <a:ext cx="769608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brollenbezie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µ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istVaterV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Kind bedeutet, dass wann immer a Vater von b ist, a auch b als Kind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llenäquival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istVorfahrV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Nachfahren bedeutet, dass a Vorfahr von b genau dann ist, wenn a b als Nachfahren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C726-675F-4F4E-8CE0-AE1D05D3072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19320" y="1125000"/>
            <a:ext cx="769608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verse R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,x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hatKin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hatElternteil bedeutet, dass hatElternteil eine inverse Rolle von hatKind ist. D.h. wenn a Kind von b ist, ist b Elternteil von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ansitive R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: Trans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(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Trans(hatNachkommen) bedeutet, dass die Nachkommen von Nachkommen auch Nachkommen sind. D.h. wenn b Nachkommen von a ist und c Nachkommen von b, dann ist c Nachkommen von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0332-5DBF-4AA6-8084-2B56F45B6441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808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minal: Damit kann man vorgeben welche Individuen Instanz von einem Konzept sein dür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tax: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mantik: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EU-Mitglied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Deutschland, Italien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onkrete Rollen: Rollen, die als zweite Argumente Datentypen wie z.B. Zahlen oder Strings ha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hasAge(Markus,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bei ist die Semantik der Datentypen festgelegt, d.h. 2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t die Zahl 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4724280" y="990720"/>
            <a:ext cx="3745080" cy="6311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7528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Erweiterungen von </a:t>
            </a:r>
            <a:r>
              <a:rPr b="0" lang="de-DE" sz="32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447920" y="1422360"/>
          <a:ext cx="3097080" cy="3308400"/>
        </p:xfrm>
        <a:graphic>
          <a:graphicData uri="http://schemas.openxmlformats.org/drawingml/2006/table">
            <a:tbl>
              <a:tblPr/>
              <a:tblGrid>
                <a:gridCol w="985680"/>
                <a:gridCol w="21114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u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.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8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.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.C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m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.C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…,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Text Box 36"/>
          <p:cNvSpPr/>
          <p:nvPr/>
        </p:nvSpPr>
        <p:spPr>
          <a:xfrm>
            <a:off x="1447920" y="990720"/>
            <a:ext cx="30970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7"/>
          <p:cNvSpPr/>
          <p:nvPr/>
        </p:nvSpPr>
        <p:spPr>
          <a:xfrm>
            <a:off x="1523880" y="4876920"/>
            <a:ext cx="302436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523880" y="5308560"/>
          <a:ext cx="3024360" cy="746280"/>
        </p:xfrm>
        <a:graphic>
          <a:graphicData uri="http://schemas.openxmlformats.org/drawingml/2006/table">
            <a:tbl>
              <a:tblPr/>
              <a:tblGrid>
                <a:gridCol w="1727280"/>
                <a:gridCol w="12970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urier New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3" name="Text Box 49"/>
          <p:cNvSpPr/>
          <p:nvPr/>
        </p:nvSpPr>
        <p:spPr>
          <a:xfrm rot="10800000">
            <a:off x="1158480" y="1422360"/>
            <a:ext cx="27468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0"/>
          <p:cNvSpPr/>
          <p:nvPr/>
        </p:nvSpPr>
        <p:spPr>
          <a:xfrm rot="10800000">
            <a:off x="1158480" y="3583080"/>
            <a:ext cx="2746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51"/>
          <p:cNvSpPr/>
          <p:nvPr/>
        </p:nvSpPr>
        <p:spPr>
          <a:xfrm rot="10800000">
            <a:off x="1239480" y="5308560"/>
            <a:ext cx="2746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2"/>
          <p:cNvSpPr/>
          <p:nvPr/>
        </p:nvSpPr>
        <p:spPr>
          <a:xfrm>
            <a:off x="5273640" y="1270080"/>
            <a:ext cx="29512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cept Axioms (T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273640" y="1701720"/>
          <a:ext cx="2951280" cy="746280"/>
        </p:xfrm>
        <a:graphic>
          <a:graphicData uri="http://schemas.openxmlformats.org/drawingml/2006/table">
            <a:tbl>
              <a:tblPr/>
              <a:tblGrid>
                <a:gridCol w="1657440"/>
                <a:gridCol w="12938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v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val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8" name="Text Box 64"/>
          <p:cNvSpPr/>
          <p:nvPr/>
        </p:nvSpPr>
        <p:spPr>
          <a:xfrm>
            <a:off x="5273640" y="2638440"/>
            <a:ext cx="29512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le Axioms (R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65"/>
          <p:cNvSpPr/>
          <p:nvPr/>
        </p:nvSpPr>
        <p:spPr>
          <a:xfrm>
            <a:off x="5275440" y="3914640"/>
            <a:ext cx="2950920" cy="43200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rtional Axioms (A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5275440" y="4311720"/>
          <a:ext cx="2950920" cy="1566720"/>
        </p:xfrm>
        <a:graphic>
          <a:graphicData uri="http://schemas.openxmlformats.org/drawingml/2006/table">
            <a:tbl>
              <a:tblPr/>
              <a:tblGrid>
                <a:gridCol w="1655640"/>
                <a:gridCol w="129528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(a,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=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1" name="Text Box 83"/>
          <p:cNvSpPr/>
          <p:nvPr/>
        </p:nvSpPr>
        <p:spPr>
          <a:xfrm rot="10800000">
            <a:off x="4986000" y="3068280"/>
            <a:ext cx="274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84"/>
          <p:cNvSpPr/>
          <p:nvPr/>
        </p:nvSpPr>
        <p:spPr>
          <a:xfrm rot="10800000">
            <a:off x="1158480" y="4374720"/>
            <a:ext cx="2746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85"/>
          <p:cNvSpPr/>
          <p:nvPr/>
        </p:nvSpPr>
        <p:spPr>
          <a:xfrm rot="10800000">
            <a:off x="4986000" y="3428640"/>
            <a:ext cx="274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5273640" y="3070080"/>
          <a:ext cx="2951280" cy="762120"/>
        </p:xfrm>
        <a:graphic>
          <a:graphicData uri="http://schemas.openxmlformats.org/drawingml/2006/table">
            <a:tbl>
              <a:tblPr/>
              <a:tblGrid>
                <a:gridCol w="1657440"/>
                <a:gridCol w="12938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v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5" name="Text Box 97"/>
          <p:cNvSpPr/>
          <p:nvPr/>
        </p:nvSpPr>
        <p:spPr>
          <a:xfrm>
            <a:off x="152280" y="62514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+ Transitivity     OWL DL = 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SHOI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D: Datenty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62C1-FD91-4F9D-8D12-A02022E727D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Gemeinsame Spra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"People can´t share knowledge if they don´t speak a common language„ [T. Davenport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"Gemeinsame Sprache" notwendig für funktionierende Kommunikation zwischen Personen bzw. Masch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hldefiniertes Vokabular an Symbolen (Lexemen, lexical ent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heitliches Verständnis, welche Begriffe (concepts) und Beziehungen (relations) durch die Symbole referenzi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3808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052A-B32D-4E02-A514-206629D20102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modellierung (Bsp.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42920" y="335772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ws are vegetar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getarians eat neither animal parts nor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 mad cow is one that has been eating sheep brai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eep are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nita is a mad c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ussfolgerung: Wissensbasis ist inkonsisten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1042920" y="1341360"/>
            <a:ext cx="7848720" cy="1922760"/>
          </a:xfrm>
          <a:prstGeom prst="rect">
            <a:avLst/>
          </a:prstGeom>
          <a:solidFill>
            <a:srgbClr val="e9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vege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vegetarian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8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: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animal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8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: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ad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(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br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anim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00"/>
                </a:solidFill>
                <a:latin typeface="Times New Roman"/>
              </a:rPr>
              <a:t>madcow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beni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0CC1-5273-40A6-8BCC-FAE48CA1E81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und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FOL = Prädikatenlogik 1. Stu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ebenso andere DLs) ist ein Fragment von F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 Wissensbasis kann semantikerhaltend nach FOL übersetz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strumentarium der Logik (aus Mathematik, Philosophie, Informatik, Künstlicher Intelligenz) kann verwendet werden.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über 2000 Jahre Entwicklung seit Aristote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B2ED-260F-4DA7-9C9A-1EC8CDB8ED51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und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formungen nach F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) ( 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 )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Modern No. 20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Modern No. 20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) ( 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) ( R(x,y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(y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) ( R(x,y) </a:t>
            </a:r>
            <a:r>
              <a:rPr b="1" lang="en-US" sz="2800" spc="-1" strike="noStrike">
                <a:solidFill>
                  <a:srgbClr val="ff0066"/>
                </a:solidFill>
                <a:latin typeface="cmsy10"/>
              </a:rPr>
              <a:t>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(y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CB38-CE76-46BC-BAC2-E2F038E44903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formung nach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457200" y="137160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vege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ad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(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br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rd 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) (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vegetarian(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) (mad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y)(eats(x,y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z)( partof(y,z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(sheep(z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rain(z)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chtige Inferenzprobl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lobale Konsistenz der Wissensbasi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cc0000"/>
                </a:solidFill>
                <a:latin typeface="Arial"/>
              </a:rPr>
              <a:t>fal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Wissensbasis sinnvo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konsisten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ss Klasse C leer se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inklusion (Subsumptio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ukturierung der Wissens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äquivalen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d zwei Klassen eigentlich diesel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disjunkth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 =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d zwei Klassen disjunk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zugehörigk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(a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Individuum a in der Klasse 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tanzgenerierung (Retrieval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„alle X mit C(X) find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de alle (bekannten!) Individuen zur Klasse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Rückführung auf Unerfüllbarke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15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konsistenz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{C(a)} uner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inklusion (Subsumption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(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)(a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äquivalenz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 und 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disjunkth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(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)(a)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zugehör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(a)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anzgenerierung (Retrieval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C(X) f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e Klassenzugehörigkeit für alle Individu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r werden das Tableauverfahren behand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Tableauverfahren versucht, auf "abstrakte" Weise ein Modell zu konstrui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sslingt das, dann ist die Wissensbasis unerfü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lingt es, ist sie erfü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Rückführung der Inferenzprobleme auf das Zeigen der Unerfüllbarkeit der Wissensbas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Umformen in Negationsnormalfor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eben eine Wissensbasis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etze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durch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und 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etze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durch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de die Regeln auf der folgenden Folie an, bis es nicht mehr ge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ierende Wissensbasis: NNF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egationsnormalfor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on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gation steht nur noch direkt vor atomaren Kl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C, falls C atom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, falls C atom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NF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NF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) = 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) = 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 und NNF(W) sind logisch äquival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Umformen in Negationsnormalfor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aives Tableau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st auf Unerfüll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d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geben Wissensbasis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uch der Erzeugung eines Baumes (genannt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ablea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, der ein Modell von W repräsentiert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Eigentlich ei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Wald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lägt der Versuch fehl, ist W unerfüll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4692-EC1C-4553-B446-2FF8F0598398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finition von Ontologi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allgemeine Zusammenhang wird von dem Bedeutungsdreieck beschrieben, welches die Interaktion zwisch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ymbolen, Begriff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genständ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er Welt defini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4880" y="152388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2484360" y="3284640"/>
            <a:ext cx="4838400" cy="2389680"/>
            <a:chOff x="2484360" y="3284640"/>
            <a:chExt cx="4838400" cy="2389680"/>
          </a:xfrm>
        </p:grpSpPr>
        <p:sp>
          <p:nvSpPr>
            <p:cNvPr id="163" name="Rectangle 5"/>
            <p:cNvSpPr/>
            <p:nvPr/>
          </p:nvSpPr>
          <p:spPr>
            <a:xfrm>
              <a:off x="5837040" y="5100120"/>
              <a:ext cx="1485720" cy="449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2663280" y="51735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Sym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5920920" y="5156280"/>
              <a:ext cx="126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Gegenst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2484360" y="5100120"/>
              <a:ext cx="1219320" cy="53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3779640" y="53665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0"/>
            <p:cNvSpPr/>
            <p:nvPr/>
          </p:nvSpPr>
          <p:spPr>
            <a:xfrm flipV="1">
              <a:off x="3187800" y="4300200"/>
              <a:ext cx="744120" cy="78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 flipH="1" flipV="1">
              <a:off x="5456160" y="4300200"/>
              <a:ext cx="773280" cy="78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4262040" y="5367240"/>
              <a:ext cx="77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steht fü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5569560" y="4567320"/>
              <a:ext cx="10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referenz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3222360" y="4466880"/>
              <a:ext cx="779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aktiv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3728880" y="3284640"/>
              <a:ext cx="1803240" cy="110448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6"/>
            <p:cNvSpPr/>
            <p:nvPr/>
          </p:nvSpPr>
          <p:spPr>
            <a:xfrm>
              <a:off x="4163760" y="355068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Begri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as Tablea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8000" y="1214280"/>
            <a:ext cx="849636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Tableau ist ein gerichteter beschrifteter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noten repräsentieren Elemente der Domäne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es Mod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r Knoten x ist mit einer Menge L(x) von Klassenausdrücken beschrift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steht für: "x ist in der Extension von C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anten stehen für Roll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Kante &lt;x,y&gt; ist mit einer Menge von Rollennamen L(&lt;x,y&gt;) beschrif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&lt;x,y&gt;) steht für: "(x,y) ist in der Extension von 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itialis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put: K=TBox + ABox (in NN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Knoten für jedes Individuum in der A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r Knoten beschriftet mit den entsprechenden Klassennamen aus der A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mit R beschriftete Kante zwischen a und b falls R(a,b) in der ABox ste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Initialis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Al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1150560" y="39895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094040" y="5645160"/>
            <a:ext cx="148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8"/>
          <p:cNvSpPr/>
          <p:nvPr/>
        </p:nvSpPr>
        <p:spPr>
          <a:xfrm>
            <a:off x="3348000" y="3789360"/>
            <a:ext cx="1058760" cy="42372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77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9"/>
          <p:cNvSpPr/>
          <p:nvPr/>
        </p:nvSpPr>
        <p:spPr>
          <a:xfrm>
            <a:off x="3276720" y="5445000"/>
            <a:ext cx="1218960" cy="42408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5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&lt;nichts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0"/>
          <p:cNvSpPr/>
          <p:nvPr/>
        </p:nvSpPr>
        <p:spPr>
          <a:xfrm>
            <a:off x="212400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765000" y="4748040"/>
            <a:ext cx="126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egationsnormalform!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 (Hum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.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l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1150560" y="39895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094040" y="5645160"/>
            <a:ext cx="148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3348000" y="3789360"/>
            <a:ext cx="1058760" cy="42372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77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9"/>
          <p:cNvSpPr/>
          <p:nvPr/>
        </p:nvSpPr>
        <p:spPr>
          <a:xfrm>
            <a:off x="3276720" y="5445000"/>
            <a:ext cx="1218960" cy="42408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5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&lt;nichts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0"/>
          <p:cNvSpPr/>
          <p:nvPr/>
        </p:nvSpPr>
        <p:spPr>
          <a:xfrm>
            <a:off x="212400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765000" y="4748040"/>
            <a:ext cx="126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struktion des Tablea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weitere das Tableau nichtdeterministisch mit den Regeln auf der folgenden Se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miniere, we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eschriftung eines Knotens einen Widerspruch enthält (d.h. Klassen C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enthält) 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e der Regeln mehr anwendb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lls das Tableau keinen Widerspruch enthält, ist die Wissensbasis erfüllbar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genauer: sind die Regeln durch geeignete Auswahl so anwendbar, dass kein Widerspruch entsteht und keine Regel mehr anwendbar ist, so ist die Wissensbasis erfüll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98984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⊈ L(x)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,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=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;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 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od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D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x keinen R-Nachfolger y mit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hat, dan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ge einen neuen Knoten y hinzu m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&lt;x,y&gt;) = {R} und L(y)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es gibt einen R-Nachfolger y von x mit C ∉ L(y), dann s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y) = L(y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Box: Ist C in der TBox und C ∉ L(x), dann setz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regel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(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935640" y="315612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853920" y="592452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3352680" y="3557520"/>
            <a:ext cx="5400720" cy="1722600"/>
          </a:xfrm>
          <a:prstGeom prst="borderCallout1">
            <a:avLst>
              <a:gd name="adj1" fmla="val 18750"/>
              <a:gd name="adj2" fmla="val -8333"/>
              <a:gd name="adj3" fmla="val -4425"/>
              <a:gd name="adj4" fmla="val -151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rph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(Hum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phan (Widerspru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um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um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7"/>
          <p:cNvSpPr/>
          <p:nvPr/>
        </p:nvSpPr>
        <p:spPr>
          <a:xfrm>
            <a:off x="3281400" y="5424480"/>
            <a:ext cx="3743280" cy="711360"/>
          </a:xfrm>
          <a:prstGeom prst="borderCallout1">
            <a:avLst>
              <a:gd name="adj1" fmla="val 18750"/>
              <a:gd name="adj2" fmla="val -8333"/>
              <a:gd name="adj3" fmla="val 110712"/>
              <a:gd name="adj4" fmla="val -226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 (Widerspru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8"/>
          <p:cNvSpPr/>
          <p:nvPr/>
        </p:nvSpPr>
        <p:spPr>
          <a:xfrm>
            <a:off x="2128680" y="362412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557640" y="459576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0"/>
          <p:cNvSpPr/>
          <p:nvPr/>
        </p:nvSpPr>
        <p:spPr>
          <a:xfrm>
            <a:off x="4806000" y="0"/>
            <a:ext cx="34099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(jamespot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.h. füge hinzu: Alive(jamespot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nd suche Widerspr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Problem mit der Termin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Box: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ox: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&gt;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st offensichtlich erfüllbar: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 M enthält Individuen 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..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d R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 für alle i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er Tableauverfahren terminiert nic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66096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2754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4986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8"/>
          <p:cNvSpPr/>
          <p:nvPr/>
        </p:nvSpPr>
        <p:spPr>
          <a:xfrm>
            <a:off x="1116000" y="5300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9"/>
          <p:cNvSpPr/>
          <p:nvPr/>
        </p:nvSpPr>
        <p:spPr>
          <a:xfrm>
            <a:off x="3276720" y="5300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39528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11"/>
          <p:cNvSpPr/>
          <p:nvPr/>
        </p:nvSpPr>
        <p:spPr>
          <a:xfrm>
            <a:off x="2484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12"/>
          <p:cNvSpPr/>
          <p:nvPr/>
        </p:nvSpPr>
        <p:spPr>
          <a:xfrm>
            <a:off x="4716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3"/>
          <p:cNvSpPr/>
          <p:nvPr/>
        </p:nvSpPr>
        <p:spPr>
          <a:xfrm>
            <a:off x="5508720" y="5300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583280" y="48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5"/>
          <p:cNvSpPr/>
          <p:nvPr/>
        </p:nvSpPr>
        <p:spPr>
          <a:xfrm>
            <a:off x="390744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6"/>
          <p:cNvSpPr/>
          <p:nvPr/>
        </p:nvSpPr>
        <p:spPr>
          <a:xfrm>
            <a:off x="621072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ösung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gentlich passiert ja nichts ne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dee: x muss nicht expandiert werden, da es eigentlich nur eine Kopie von a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66096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2754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4986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7"/>
          <p:cNvSpPr/>
          <p:nvPr/>
        </p:nvSpPr>
        <p:spPr>
          <a:xfrm>
            <a:off x="1116000" y="5300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8"/>
          <p:cNvSpPr/>
          <p:nvPr/>
        </p:nvSpPr>
        <p:spPr>
          <a:xfrm>
            <a:off x="3276720" y="5300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9"/>
          <p:cNvSpPr/>
          <p:nvPr/>
        </p:nvSpPr>
        <p:spPr>
          <a:xfrm>
            <a:off x="39528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0"/>
          <p:cNvSpPr/>
          <p:nvPr/>
        </p:nvSpPr>
        <p:spPr>
          <a:xfrm>
            <a:off x="2484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4716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2"/>
          <p:cNvSpPr/>
          <p:nvPr/>
        </p:nvSpPr>
        <p:spPr>
          <a:xfrm>
            <a:off x="5508720" y="5300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3"/>
          <p:cNvSpPr/>
          <p:nvPr/>
        </p:nvSpPr>
        <p:spPr>
          <a:xfrm>
            <a:off x="1583280" y="48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4"/>
          <p:cNvSpPr/>
          <p:nvPr/>
        </p:nvSpPr>
        <p:spPr>
          <a:xfrm>
            <a:off x="390744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5"/>
          <p:cNvSpPr/>
          <p:nvPr/>
        </p:nvSpPr>
        <p:spPr>
          <a:xfrm>
            <a:off x="621072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 ist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geblock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duch y) 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 ein Vorgänger von x ist und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ein Vorgänger von x geblockt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 ist in diesem Beispiel durch a geblock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1040400" y="2997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3133800" y="2976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5365800" y="2976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7"/>
          <p:cNvSpPr/>
          <p:nvPr/>
        </p:nvSpPr>
        <p:spPr>
          <a:xfrm>
            <a:off x="1495440" y="31924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8"/>
          <p:cNvSpPr/>
          <p:nvPr/>
        </p:nvSpPr>
        <p:spPr>
          <a:xfrm>
            <a:off x="3656160" y="31924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77472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10"/>
          <p:cNvSpPr/>
          <p:nvPr/>
        </p:nvSpPr>
        <p:spPr>
          <a:xfrm>
            <a:off x="286380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1"/>
          <p:cNvSpPr/>
          <p:nvPr/>
        </p:nvSpPr>
        <p:spPr>
          <a:xfrm>
            <a:off x="509580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5888160" y="31924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3"/>
          <p:cNvSpPr/>
          <p:nvPr/>
        </p:nvSpPr>
        <p:spPr>
          <a:xfrm>
            <a:off x="1962720" y="27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4286880" y="2760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5"/>
          <p:cNvSpPr/>
          <p:nvPr/>
        </p:nvSpPr>
        <p:spPr>
          <a:xfrm>
            <a:off x="6590160" y="2760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664D-161E-487B-BA0E-B2BFC05F849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mbole und Gegenstän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2319120" y="2635200"/>
            <a:ext cx="3200400" cy="2057040"/>
            <a:chOff x="2319120" y="2635200"/>
            <a:chExt cx="3200400" cy="2057040"/>
          </a:xfrm>
        </p:grpSpPr>
        <p:sp>
          <p:nvSpPr>
            <p:cNvPr id="178" name="Line 4"/>
            <p:cNvSpPr/>
            <p:nvPr/>
          </p:nvSpPr>
          <p:spPr>
            <a:xfrm flipH="1">
              <a:off x="2319120" y="2635200"/>
              <a:ext cx="1548360" cy="20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5"/>
            <p:cNvSpPr/>
            <p:nvPr/>
          </p:nvSpPr>
          <p:spPr>
            <a:xfrm>
              <a:off x="2319480" y="4692240"/>
              <a:ext cx="32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>
              <a:off x="3867840" y="2635200"/>
              <a:ext cx="1651680" cy="20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AutoShape 7"/>
          <p:cNvSpPr/>
          <p:nvPr/>
        </p:nvSpPr>
        <p:spPr>
          <a:xfrm>
            <a:off x="1981080" y="1523880"/>
            <a:ext cx="4191120" cy="914400"/>
          </a:xfrm>
          <a:prstGeom prst="cloudCallout">
            <a:avLst>
              <a:gd name="adj1" fmla="val -33407"/>
              <a:gd name="adj2" fmla="val 8455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056240" y="47692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Book Antiqua"/>
              </a:rPr>
              <a:t>„</a:t>
            </a:r>
            <a:r>
              <a:rPr b="1" i="1" lang="de-DE" sz="2400" spc="-1" strike="noStrike">
                <a:solidFill>
                  <a:srgbClr val="000000"/>
                </a:solidFill>
                <a:latin typeface="Book Antiqua"/>
              </a:rPr>
              <a:t>JAGUA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4926240" y="502884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enst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1471320" y="52574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596760" y="121896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gri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2" descr="jaguarc"/>
          <p:cNvPicPr/>
          <p:nvPr/>
        </p:nvPicPr>
        <p:blipFill>
          <a:blip r:embed="rId1"/>
          <a:stretch/>
        </p:blipFill>
        <p:spPr>
          <a:xfrm>
            <a:off x="6324480" y="4495680"/>
            <a:ext cx="1600200" cy="900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jaguara"/>
          <p:cNvPicPr/>
          <p:nvPr/>
        </p:nvPicPr>
        <p:blipFill>
          <a:blip r:embed="rId2"/>
          <a:stretch/>
        </p:blipFill>
        <p:spPr>
          <a:xfrm>
            <a:off x="6400800" y="3200400"/>
            <a:ext cx="1371600" cy="1096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JAGUARav"/>
          <p:cNvPicPr/>
          <p:nvPr/>
        </p:nvPicPr>
        <p:blipFill>
          <a:blip r:embed="rId3"/>
          <a:stretch/>
        </p:blipFill>
        <p:spPr>
          <a:xfrm>
            <a:off x="6629400" y="5486400"/>
            <a:ext cx="1143000" cy="10270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5"/>
          <p:cNvSpPr/>
          <p:nvPr/>
        </p:nvSpPr>
        <p:spPr>
          <a:xfrm>
            <a:off x="3896640" y="16754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6"/>
          <p:cNvSpPr/>
          <p:nvPr/>
        </p:nvSpPr>
        <p:spPr>
          <a:xfrm flipV="1">
            <a:off x="1828800" y="2743200"/>
            <a:ext cx="1447920" cy="182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7"/>
          <p:cNvSpPr/>
          <p:nvPr/>
        </p:nvSpPr>
        <p:spPr>
          <a:xfrm>
            <a:off x="4800600" y="2438280"/>
            <a:ext cx="1905120" cy="7621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4724280" y="2590920"/>
            <a:ext cx="1828800" cy="1828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4572000" y="2666880"/>
            <a:ext cx="2133720" cy="3276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4339440" y="1659600"/>
            <a:ext cx="947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2660760" y="1659600"/>
            <a:ext cx="90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3533400" y="1964160"/>
            <a:ext cx="114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Flugze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 mit 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e das Tableau nichtdeterministisch mit den Regeln auf der folgenden Seite, aber 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wende eine Regel nur an, falls x nicht geblockt 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rminiere, we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Beschriftung eines Knotens einen Widerspruch enthält (d.h. Klassen C un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 enthält) 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der Regeln mehr anwendbar 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s das Tableau keinen Widerspruch enthält, ist die Wissensbasis erfüllba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enauer: sind die Regeln durch geeignete Auswahl so anwendbar, dass kein Widerspruch entsteht und keine Regel mehr anwendbar ist, so ist die Wissensbasis erfüllb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98984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⊈ L(x)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,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=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;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 oder 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x keinen R-Nachfolger y mit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hat, dan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ge einen neuen Knoten y hinzu m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&lt;x,y&gt;) = {R} und L(y)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es gibt einen R-Nachfolger y von x mit C ∉ L(y), dann s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y) = L(y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Box: Ist C in der TBox und C ∉ L(x), dann setz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Regeln nur anwenden, falls x nicht geblockt 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regeln mit 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x-Beweis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cs.man.ac.uk/~horrocks/FaC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I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ct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owl.man.ac.uk/factplusplu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IQ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mindswap.org/2003/pellet/index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IN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acerP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sts.tu-harburg.de/~r.f.moeller/race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IQ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scal Hitzler, Markus Krötzsch, Sebastian Rudolph, York Sure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emantic Web – Grundlagen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pringer 2008. (ISBN 9783540339939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effen Staab, Rudi Studer (Editors)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andbook on Ontologies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pringer 2003 (ISBN 354040834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nz Baader, Diego Calvanese, Deborah McGuinness, Daniele Nardi, Peter Patel-Schneider (eds.),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Description Logic Handbook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ambridge University Press, 2007. (ISBN 978052178176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1645-CAB0-4ED0-8C00-37D680AD2C5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80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für Kommunik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 Ontologie reduziert die Anzahl von Abbildungen von Symbolen auf Gegenstände der realen Welt, im Idealfall ist die Abbildung eindeu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2114640" y="4730760"/>
            <a:ext cx="1209600" cy="824040"/>
          </a:xfrm>
          <a:prstGeom prst="ellipse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3621240" y="4148280"/>
            <a:ext cx="2047680" cy="1019160"/>
            <a:chOff x="3621240" y="4148280"/>
            <a:chExt cx="2047680" cy="1019160"/>
          </a:xfrm>
        </p:grpSpPr>
        <p:sp>
          <p:nvSpPr>
            <p:cNvPr id="202" name="Line 6"/>
            <p:cNvSpPr/>
            <p:nvPr/>
          </p:nvSpPr>
          <p:spPr>
            <a:xfrm flipH="1">
              <a:off x="3621240" y="4148280"/>
              <a:ext cx="990720" cy="10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>
              <a:off x="3621240" y="5167440"/>
              <a:ext cx="204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>
              <a:off x="4611960" y="4148280"/>
              <a:ext cx="1056600" cy="10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Text Box 9"/>
          <p:cNvSpPr/>
          <p:nvPr/>
        </p:nvSpPr>
        <p:spPr>
          <a:xfrm>
            <a:off x="2199600" y="4978080"/>
            <a:ext cx="10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Book Antiqua"/>
              </a:rPr>
              <a:t>„</a:t>
            </a:r>
            <a:r>
              <a:rPr b="1" i="1" lang="de-DE" sz="1600" spc="-1" strike="noStrike">
                <a:solidFill>
                  <a:srgbClr val="000000"/>
                </a:solidFill>
                <a:latin typeface="Book Antiqua"/>
              </a:rPr>
              <a:t>JAGUAR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569920" y="5530320"/>
            <a:ext cx="244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enstand der realen W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458360" y="5530320"/>
            <a:ext cx="244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ymbol aus dem Vokab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533400" y="2971440"/>
            <a:ext cx="21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griff in der Ont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3" descr="jaguarc"/>
          <p:cNvPicPr/>
          <p:nvPr/>
        </p:nvPicPr>
        <p:blipFill>
          <a:blip r:embed="rId1"/>
          <a:stretch/>
        </p:blipFill>
        <p:spPr>
          <a:xfrm>
            <a:off x="5826240" y="4778280"/>
            <a:ext cx="1287360" cy="5731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14"/>
          <p:cNvGrpSpPr/>
          <p:nvPr/>
        </p:nvGrpSpPr>
        <p:grpSpPr>
          <a:xfrm>
            <a:off x="4111560" y="3225960"/>
            <a:ext cx="979560" cy="776160"/>
            <a:chOff x="4111560" y="3225960"/>
            <a:chExt cx="979560" cy="776160"/>
          </a:xfrm>
        </p:grpSpPr>
        <p:pic>
          <p:nvPicPr>
            <p:cNvPr id="211" name="Picture 15" descr="WIM_Logo_klein"/>
            <p:cNvPicPr/>
            <p:nvPr/>
          </p:nvPicPr>
          <p:blipFill>
            <a:blip r:embed="rId2"/>
            <a:stretch/>
          </p:blipFill>
          <p:spPr>
            <a:xfrm>
              <a:off x="4111560" y="3225960"/>
              <a:ext cx="97956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6" descr="jaguarc"/>
            <p:cNvPicPr/>
            <p:nvPr/>
          </p:nvPicPr>
          <p:blipFill>
            <a:blip r:embed="rId3"/>
            <a:stretch/>
          </p:blipFill>
          <p:spPr>
            <a:xfrm>
              <a:off x="4295160" y="3420000"/>
              <a:ext cx="550800" cy="24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Line 17"/>
          <p:cNvSpPr/>
          <p:nvPr/>
        </p:nvSpPr>
        <p:spPr>
          <a:xfrm flipV="1">
            <a:off x="3171960" y="3517920"/>
            <a:ext cx="1122120" cy="1326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4846680" y="3517920"/>
            <a:ext cx="1285920" cy="121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4E68-014B-4FEE-A7C1-7D6C2F160E69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sprach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rachen, mit denen man konzeptuell modellieren kan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dikatenlogik erster St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me-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DF(S) und OWL (W3C Recommend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rachen unterscheiden sich in ihrer Ausdrucksmächtig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forderung: Formale Semantik und Ausführ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ntologiesprachen sollten für das Semantic Web geeignet sein, siehe z.B. O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5862-9016-428A-AB2E-18B963E1163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990360"/>
            <a:ext cx="883908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WWW ist zur Nutzung durch den Menschen bestimm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WW basiert auf der Markupsprache HTML, die beschreib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Information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rgestell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soll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Informationen miteinan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knüpf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könn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er nicht, was diese Information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deu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Web ist das Web der nächste Generation, das zur Nutzung durch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n Menschen und Maschin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bestimmt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erausforderung für die SW Sprache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edeutung von Informationen (Web Seiten, Web Links) in maschinelesbarer Form darzu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Semantic We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6:28:51Z</dcterms:created>
  <dc:creator>ulla</dc:creator>
  <dc:description/>
  <dc:language>en-US</dc:language>
  <cp:lastModifiedBy>Sebastian Rudolph</cp:lastModifiedBy>
  <cp:lastPrinted>2000-10-25T10:09:24Z</cp:lastPrinted>
  <dcterms:modified xsi:type="dcterms:W3CDTF">2008-06-19T15:12:20Z</dcterms:modified>
  <cp:revision>289</cp:revision>
  <dc:subject/>
  <dc:title>Teil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